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  <p:sldId id="267" r:id="rId34"/>
    <p:sldId id="26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slide" Target="slides/slide12.xml"/><Relationship Id="rId35" Type="http://schemas.openxmlformats.org/officeDocument/2006/relationships/slide" Target="slides/slide1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F6796-58F6-4C2D-81B1-7B40BED6F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506B4-1BC7-4619-B608-17F1B1720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A6620B-0B83-44F4-A002-F04D65CC4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AAA968-6557-4E50-891D-639F0842D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C7CE60-9A86-4153-A228-1BD35D7A9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45F1D5-7CE4-469A-A3AF-60C565D77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99AE8E-047E-4A23-88A5-D2ED40FE3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438668-FAFB-4CB8-A0C7-0B3908559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A4C990-DDD8-4F4E-BEB9-EDF492E6C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88F563-77E5-4CD4-99AF-9FD58AD91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1C72BE-5752-49E0-AFE1-271EDD469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570050-141D-4A1B-9E83-B0A92B2B6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485D2-8CCC-48B7-BEAA-C3D61B819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3D5C88-01DE-41F9-9628-00FABD059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3E30CC-8F4C-4D18-BEB0-B7ADBC25A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B6C6B5-7A31-40AA-8550-401E735A1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212850-4E65-4F94-A2E1-ACB06654C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ED161C-8FD3-4139-BFF2-323B75F6D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96B771-1291-4072-AE76-86166251A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93D8A4-DD69-4061-BDF9-B77F19A4C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A3CD19-473B-4BAF-B1F0-182D9BA4A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F6BD8C-C860-4571-87B5-4D6955D6C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A5229B-7F91-4361-BB08-FC6A5892A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F8D76-3352-492A-983D-7C366C58F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DA10B6-30D2-4221-9C87-3DE2F8214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CDE3FC-CA26-4BE4-A780-2A08EF8EA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890352-9C06-4E7C-BAAC-26C7BE959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5BBA52-6742-4787-8DC6-FD0D03738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6CC19F-C3C0-4E14-AE59-C2575A102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AF10D8-4834-4D3C-945A-F539324C2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372F55-1A7F-4009-995C-430D25769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3411ED-D00A-45A6-820F-4F5628590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3F93C8-E14F-44C5-B268-BF804D0EB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D7531A-9248-4032-BF11-5DF3BBAF6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FCA8B-A074-4442-8222-369E5092A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4CAD1E-1571-4AD6-8CDD-B018C652A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4949C6-02E9-4501-A768-F4DE06791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1585C3-80AE-48D9-A829-FAA4E9F6F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038DE3-D77D-4531-88A5-913118DC7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C62771-AB52-4075-BF4E-6831A1597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002DED-4EDC-4241-8118-320E738A2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CA2866-DE17-492B-A30E-1FA70AAF7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2EFA23-5F2D-4EF1-B118-FBD1A4E78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006C9F-6629-4730-B320-53206CD2A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DCEE1E-B095-4CF1-8939-4E5911938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B1F99-0449-4F85-8E9F-356470D9C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09B6A2-9327-4D89-BEC9-5DD3C5A2B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7E49CA-7066-4BD2-9C83-4A7064757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4CFC12-E915-453B-9264-B10E1196F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A6F01B-664B-4DA1-A6A4-E7E663733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A01FCA-19B1-41A3-8187-167E4FD09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6F915A3-DB22-4D4B-977D-94769CC75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CDCDB3C-2538-4D6A-9E31-45AEDA61A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C69E04A-883E-4146-8468-1F76E7D00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1779E28-169E-4C80-A14B-F755F7232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58B2B2B-1245-461E-8AE1-B7016D89B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8180F-04E6-4D1C-87AB-E1BEB93FD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C9FC71A-C187-49B3-B630-7CC842531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88A8180-0C09-47D0-A135-1628FFFA7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E26FA94-7F99-4BCE-A6D9-C0BAE2291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80B5542-76B2-49B2-8C11-62E4B3869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6FBF7F9-0BED-4534-A44D-96733C4FF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AC2734A-B48F-48B5-9017-312B43DFB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7902890-2686-4197-83FD-03C6ED6A0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619739D-5784-4A1F-9EB7-1DDA91D4E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7869EA9-0775-4295-A458-51C40E815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0A296E6-C9CC-46EA-83AA-64E24A62C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A8B61-4BF0-43DB-A6D0-53027EF00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B7766E5-37BC-465B-BEAD-68E6A0758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94C8224-0B45-44B3-8A00-4DED26754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BD12A63-0D06-4665-BCF0-BBBEFFFD1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369E1AA-A4C0-4F91-B6B6-2D823D783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61BFB21-31B1-43ED-81F3-66482BE7F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B02A5E4-7A75-48A6-AFDC-CC1B084FB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730CDF4-E044-469B-807A-7BE501A9F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DD3C08B-7D57-4ACF-AB49-69F00C343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81D70A6-F895-474F-BE66-6873F7385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8FED699-5A3F-4B1B-BD49-35B3BCE15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61054-3084-4AAF-AE12-93E666109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0FFE17C-C395-45E3-AE51-5BDB489C6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0718B80-E9E3-473F-AFFB-A29C3F964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2E93F25-9B29-4937-87BC-8F822AFC6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33D440A-3967-4FB1-87C4-466B06B8F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9879C62-BA6E-49C5-A113-7C9A3C912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0488362-64D3-4AF6-BC39-19F758F20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353DD62-97DC-4C34-9302-036E41C3A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62885B3-4791-48F4-B0BE-D68EEC7C7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722AD86-8E82-4349-8463-B14D05990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F18DE7E-A414-4FBA-AA25-161A14BBB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F07FF-8D04-4226-9D7A-551A4F2C3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BD09229-A69D-4717-A4C9-4ADF87E2C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B21DD86-5C03-49D4-A109-9D67AA1D5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1A2A979-4E27-4665-AB58-22BCE532C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7D8CD27-B3DD-43F8-BDCF-2FC5F5BAE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47C9A69-3376-419E-9138-EDD94F2AB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9DB999A-5374-4345-8AEA-C0D2C66CB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F5756A8-C236-406B-81F9-D2910F73D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39B4F76-9DC3-4D68-B558-FEB97C2C0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1DA3585-0CF5-437D-884E-E897EEA41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DE95A45-89D2-4A77-BB4F-A443DA6CF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B4331-E855-4877-9336-AB0EE7EF0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A892A34-BABA-473F-8FA1-588337575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31AFD7B-19E6-43C3-A52D-9A0230240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A1FB071-5426-4D39-AC48-4CA8DD264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84AD9A9-0C41-44DE-B677-329464D56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571699A-6134-4012-9030-46D8FEBF2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034E060-EAED-4193-8DAC-9E451B283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E5AB055-C912-4FFE-86B1-2664BFCCC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6136219-350A-413D-B4C2-055F8652D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9C79679-0548-4F00-AD91-E9A0120A2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B8EBFD6-831E-4D44-A9CE-FE7C1FB13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8C251-AE73-416A-BBED-C3DE53A2B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B095A-FEE1-4F6C-ACCF-B59B6FA3E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EEAD53A-A756-4C47-8473-5F01CF386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895EF7A-852E-46B8-9343-2A8D0210E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CEEBD8F-5952-4CC6-8EF9-57C8AA497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958608D-B959-4575-A9D2-A05A69703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ED8CAF2-E3A4-434C-B66E-3A8692D8A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51C761E-FCBB-4F01-948E-66E312C65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DEE5781-371B-494A-AACE-6DEA5A6A2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E3A7F1E-79B5-43B7-BA16-3AD424240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6A61511-4AFF-49B9-BB81-9EDD1BBAC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F60DBFA-1203-4A9A-8FF6-2E0D6E67D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6E385-446B-4C07-A6F6-91595EBE3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DFA2AF6-3A69-4851-A198-86AD37985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00DE044-1AF6-411D-8457-E3EC7B78E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911BCD6-22E7-4A32-A37E-3BE028964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DA9697D-862E-46AD-950B-B0DDC4C86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2F7B6B3-5BE4-4BFA-9E7B-64CD54107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32CEA5E-FC58-4294-874C-E53BDB854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8A9EDF6-C659-4947-BD20-C7DD0E178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5079A70-D7EF-489E-8BC9-34BB8D501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969BE24-62A5-4A46-B19E-59105799C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5A0A118-66BB-45EF-8E6C-14DDBCA9D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2249D-C860-4DD2-AE4E-A9780EAC7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783E6D3-7238-4614-900D-E5B20EFF8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1B09DC6-151D-4F61-ADEE-3C99AEE7E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76006D0-CE7F-4BB4-89E6-E188F6C3A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2D55229-96B9-4B69-A41D-C73AA84C2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5B32801-F0DC-41A5-B277-4E17E313E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CAEB618-F0D8-4DB3-8BD5-F42EF9BBA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21DB40B-D32B-4E74-ABEC-B17F07B16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7E768B6-07BC-451E-A903-DC89C5C28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0CA43A0-6BD6-4E12-A168-A1EF703C5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43114C3-A6D9-4EAA-BA70-2DAA6E23B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18C61-C2FA-44F4-9DA3-9CD6A01BD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C748110-89FC-4A17-B3E3-DCA078FF2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A2FCD09-2A32-42A2-9EC1-AE7746759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B858049-5C69-4E75-A740-85B04F74D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B58FE77-4C3E-490E-8142-C516FEF5B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EADA5B3-09DC-4F09-86D9-3C5F87548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453D58F-A24A-4F8D-BD62-0051E76FE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2A0F483-632E-4A4A-909C-08FDB2C9B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C157D22-947D-4416-8A16-4D0A61C89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2D289EC-7F75-40C9-BEB8-248FD43AE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860BAE6-4797-4C83-A0A1-4D668E4EE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5C86B-DAFB-4896-846C-CA0117264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B282E1B-4ACD-402F-9616-CD0D8C833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47A3607-AEC4-4502-9C58-1B38F744F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181E013-C77D-4AD8-8E31-97EDB6CE7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D4A2894-0D3B-4AD8-859A-8F257491D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A293AB7-1536-40E2-8133-9508DD805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4FC9302-3399-47DF-ADDF-A64F91072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A33614E-EA98-4F13-A48F-3154E0494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49C3CCD-D3B3-4503-BB43-88CC9D38B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D628A19-CBA9-4777-B189-EE3DBC25C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7E20887-11DD-402C-B3C4-1A03F9DD7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C48D52-2BD0-41E9-A55A-DFDA87278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48A86B2-3BFF-4B2A-A2D8-456E4E50B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29F01E7-0BED-4C1E-83C1-F2B338F26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37F5CB0-5229-4589-B42E-EC4C74628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AB02F1-603D-4E16-B81A-4CD69B1AE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97D9EC-1EE8-4CE9-97BA-C1D9E2F38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678A0F-BF37-4F8D-82A5-C18EE7FCD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970577-1417-4AEA-BF8A-BA0CBCB39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DAA04-07B8-4826-AE33-9A38C648C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CD99B0-8EE7-4226-A137-FE951F069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E62D6B-E7EF-4195-AC1E-1A441A437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79BEA4-D60B-4FE6-99B1-0D043FDDA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879AD8-284E-4C99-9E65-77B76C9B3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81E142-DDE2-4729-AE1A-29C9FF014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18B2D5-46A8-4185-9403-C29BC2035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9922FB-28AF-4DDF-A858-D4DCC0337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0616E1-3961-460C-9AD9-DA810440D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A18D89-124A-46FA-BB0A-EC852F6C5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1B6CD0-1C2B-4ECE-831B-1135741C3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28A4D-FF53-4C45-A4D4-C2CF33F0A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ECB906-933B-481D-A940-75EC0A473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BAE4D8-758D-4411-B039-94EF5C1A0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D68ED2-7321-4F12-B238-EE0B8D26C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706177-A386-4883-9A5E-7AA8A0842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68F795-432F-4EB9-A78D-A2DE646FB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631CAD-3746-4576-BF53-F9328B3C1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95D4D0-3E65-43B1-9C86-AE0FA08B0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121207-D5C4-4B5F-8F21-5D07A1621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21AAFA-C0FB-465C-BCF0-8394D6F15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01AA1D-F3CA-46C2-8A7E-C97B1D087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E1434-5782-46A2-A2A2-42819F389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AE21AE-24BF-45B7-8F17-0670CC105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330FFC-7729-40A0-A726-1447326CF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803D82-97CB-4B9B-AE29-7FFA41820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79ED68-EF22-484D-A867-43BF8EB86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88ED24-BB9F-4614-9DFA-D3F947CD8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BFDEDA-C713-4061-897B-B3343D80F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E0BC04-44F5-425A-87D5-8C9CD4AA7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AF68D0-81A2-4DA1-8943-132E191D3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A49733-BE97-434C-B7AA-429C5D2AB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DD12FA-C052-4226-8EC5-5079AEF5E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C8408-293D-4098-B333-06A209195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328DE7-5657-4CD9-B9EC-CBEB486D2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840E70-570A-4F01-9CC1-D518ED49B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EF8D0F-745C-488D-B4FB-83501C943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5B9427-7A28-4F30-8F13-36892C0A5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4F3F0E-846C-4035-8666-877BDD855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DB0612-C5A7-4309-BDBF-55E3B60DF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D9CBF8-DD68-44D1-86D4-F631122A0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4EFEE0-CB0F-45C0-962F-85F8DA7E5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7E751A-8F83-4047-81E7-6650DEF83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81BA7B-2FCD-413B-91AB-637BB6742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FE863-16BA-4AF0-A48C-116879B32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A7CCC8-F338-4E78-B195-061740923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83FAE5-3663-43CE-A128-58A63949C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FF7C38-4722-4AA1-A7EB-2CA23E52F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F7A67B-1716-4E8E-B430-DAF9EE36E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C79E47-5E14-412E-8E94-49115DC67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2A8C7F-4BFC-4558-82F9-FDDAA4C6F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C85ED4-A68D-408C-812B-9AFA01860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F64C58-DFB8-47DA-852D-FE5C1D969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F1A4E6-0C37-4ECE-8FBC-68BA75598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1A286B-C2B0-40E6-87C1-F9833C24F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A4E99-C6D2-44C8-B453-7D4BCDCD8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4BFC11-09A7-4E03-8303-1B480C6A1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8E8496-F7ED-436E-82D3-E650D86FD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D24D94-71DB-4EDE-AAE4-858BECB17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33BC4F-DD67-4652-8ABA-250E848A0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283B98-0B54-4098-A6A7-95596710A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BD960F-83D3-4BF9-931D-FF6D766AD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4E96B6-4F8C-4ECF-88DC-58FD098E9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E07D80-B566-4312-BAF1-014398614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A7E631-6D48-4DF3-A086-E713BC2B7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6B9CF9-3C3F-4023-B51A-0FF522154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9004A-1D8A-42C9-B04D-EEE748F57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388654-3472-4362-BE79-A9D2216CF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6DADBD-BBC1-4116-A2FA-F2F4B2650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E41195-5B5D-47FA-B758-57E67E81B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4F32FA-2A2E-4846-BC28-ACF00268B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512B71-DAF1-4525-8B42-3D5368E82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7D8D62-93F9-4822-BC45-B3370AB84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2D7565-A25B-44B3-8080-D0B8B1BAC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430995-E253-41D3-BC09-08ABFDA36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1CC1A0-1FED-4B25-9F29-C8D2324F3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A153C2-566E-43DD-962A-6D12E2C17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A4163-89E3-4106-B009-5CBBCF106D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82D2F-E769-4E0F-8C29-E2E89814831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E5168-E170-4BC5-9FA6-A2FC9AB00A8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46E7E-D119-4453-B113-741FF49CC95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2A3BE-7727-46B6-B3EB-B1DB143E815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87738-1442-4411-AD7A-5EA9843645D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8A5E6-3C28-4F59-95D8-7C7C11335BC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51C83-CF7A-4178-A738-BD83DECA7C7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D6939-FF73-45E6-8086-5DA717DD7B2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145FA-A886-4F26-8EF5-A6B1E417C16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3D73D-9014-493B-B264-FF2BF511B08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095D2-3468-4118-B0B0-27FA4FF5BB6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12C4A-AB9B-4BEB-A1A1-39E58346EB8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60881-6223-4A17-BB7E-98C9AD68E72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20BDB-B82B-4FA3-B25E-267187D3ADC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9BC6F-424C-40C5-975E-73C9D2EA683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1E257-786F-4D84-BE26-3BD3CB7A9E1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24142-E47B-46B7-87C1-71ABACAEFF7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63938-71C3-467C-83B7-0C3679A2446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B8C12-5095-4AB1-9453-04F2D64A423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CAF55-A5EA-4051-BD83-03A48B2ED9F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C537D-5EBA-4E35-80C1-42CAB140946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327C2-F6A6-4ECF-8EF3-630DA296228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92DBF-4A37-4E18-A3B1-48D1F5D5F95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21A18-56AB-4B4B-A19F-F82449AAE48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15F5E-A71A-42A4-9883-438D47CAEEE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33456-06CA-46AF-B127-2FEF33A5B0A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F91AF-97AE-4119-ABA4-EB7D7A4D18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5AAEA-4BA9-47A7-B78A-DF282E8E960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7A325-ECCB-4CEA-877A-76E33134D8C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E532B-EBAA-411E-B647-8232CA1E099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53522-A56C-4381-986E-D5C675523EC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433F8-8C3C-4522-8FFA-763635802BD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FCC79-7A4E-485F-9C87-F5C72DF6CAF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13412-C457-49B3-92B1-34C392EA4C7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92549-1492-4A12-959A-120673C7FB3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FBE9B-D677-4178-AF33-4266D726A37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BED78-8D52-40AC-8086-8D2D774CEAB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673AB-AA67-4410-B966-EBCBB188C84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31B53-DA5A-4CD9-9BEF-91329AAFE4F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image" Target="../media/image13.png"/><Relationship Id="rId1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2" name="Picture 2" descr=""/>
          <p:cNvPicPr/>
          <p:nvPr/>
        </p:nvPicPr>
        <p:blipFill>
          <a:blip r:embed="rId1"/>
          <a:stretch/>
        </p:blipFill>
        <p:spPr>
          <a:xfrm>
            <a:off x="933480" y="3166920"/>
            <a:ext cx="7277040" cy="5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0" name="图片 1" descr=""/>
          <p:cNvPicPr/>
          <p:nvPr/>
        </p:nvPicPr>
        <p:blipFill>
          <a:blip r:embed="rId1"/>
          <a:stretch/>
        </p:blipFill>
        <p:spPr>
          <a:xfrm>
            <a:off x="320760" y="871560"/>
            <a:ext cx="8504280" cy="5657760"/>
          </a:xfrm>
          <a:prstGeom prst="rect">
            <a:avLst/>
          </a:prstGeom>
          <a:ln w="0">
            <a:noFill/>
          </a:ln>
        </p:spPr>
      </p:pic>
      <p:pic>
        <p:nvPicPr>
          <p:cNvPr id="1061" name="Picture 4" descr=""/>
          <p:cNvPicPr/>
          <p:nvPr/>
        </p:nvPicPr>
        <p:blipFill>
          <a:blip r:embed="rId2"/>
          <a:stretch/>
        </p:blipFill>
        <p:spPr>
          <a:xfrm>
            <a:off x="6929280" y="1357200"/>
            <a:ext cx="928800" cy="443160"/>
          </a:xfrm>
          <a:prstGeom prst="rect">
            <a:avLst/>
          </a:prstGeom>
          <a:ln w="0">
            <a:noFill/>
          </a:ln>
        </p:spPr>
      </p:pic>
      <p:pic>
        <p:nvPicPr>
          <p:cNvPr id="1062" name="Picture 4" descr=""/>
          <p:cNvPicPr/>
          <p:nvPr/>
        </p:nvPicPr>
        <p:blipFill>
          <a:blip r:embed="rId3"/>
          <a:stretch/>
        </p:blipFill>
        <p:spPr>
          <a:xfrm>
            <a:off x="6429240" y="1928880"/>
            <a:ext cx="2357640" cy="442800"/>
          </a:xfrm>
          <a:prstGeom prst="rect">
            <a:avLst/>
          </a:prstGeom>
          <a:ln w="0">
            <a:noFill/>
          </a:ln>
        </p:spPr>
      </p:pic>
      <p:pic>
        <p:nvPicPr>
          <p:cNvPr id="1063" name="Picture 4" descr=""/>
          <p:cNvPicPr/>
          <p:nvPr/>
        </p:nvPicPr>
        <p:blipFill>
          <a:blip r:embed="rId4"/>
          <a:stretch/>
        </p:blipFill>
        <p:spPr>
          <a:xfrm>
            <a:off x="1500120" y="2500200"/>
            <a:ext cx="928800" cy="4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2" dur="5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7" dur="5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2" dur="5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图片 1" descr=""/>
          <p:cNvPicPr/>
          <p:nvPr/>
        </p:nvPicPr>
        <p:blipFill>
          <a:blip r:embed="rId1"/>
          <a:stretch/>
        </p:blipFill>
        <p:spPr>
          <a:xfrm>
            <a:off x="711360" y="915840"/>
            <a:ext cx="7723080" cy="557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5" name="图片 1" descr=""/>
          <p:cNvPicPr/>
          <p:nvPr/>
        </p:nvPicPr>
        <p:blipFill>
          <a:blip r:embed="rId1"/>
          <a:stretch/>
        </p:blipFill>
        <p:spPr>
          <a:xfrm>
            <a:off x="473040" y="836640"/>
            <a:ext cx="8199360" cy="5838840"/>
          </a:xfrm>
          <a:prstGeom prst="rect">
            <a:avLst/>
          </a:prstGeom>
          <a:ln w="0">
            <a:noFill/>
          </a:ln>
        </p:spPr>
      </p:pic>
      <p:pic>
        <p:nvPicPr>
          <p:cNvPr id="1066" name="Picture 4" descr=""/>
          <p:cNvPicPr/>
          <p:nvPr/>
        </p:nvPicPr>
        <p:blipFill>
          <a:blip r:embed="rId2"/>
          <a:stretch/>
        </p:blipFill>
        <p:spPr>
          <a:xfrm>
            <a:off x="1857240" y="5000760"/>
            <a:ext cx="1000440" cy="442800"/>
          </a:xfrm>
          <a:prstGeom prst="rect">
            <a:avLst/>
          </a:prstGeom>
          <a:ln w="0">
            <a:noFill/>
          </a:ln>
        </p:spPr>
      </p:pic>
      <p:pic>
        <p:nvPicPr>
          <p:cNvPr id="1067" name="Picture 4" descr=""/>
          <p:cNvPicPr/>
          <p:nvPr/>
        </p:nvPicPr>
        <p:blipFill>
          <a:blip r:embed="rId3"/>
          <a:stretch/>
        </p:blipFill>
        <p:spPr>
          <a:xfrm>
            <a:off x="4214880" y="6143760"/>
            <a:ext cx="1000080" cy="44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9" dur="500"/>
                                        <p:tgtEl>
                                          <p:spTgt spid="10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4" dur="5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8" name="图片 1" descr=""/>
          <p:cNvPicPr/>
          <p:nvPr/>
        </p:nvPicPr>
        <p:blipFill>
          <a:blip r:embed="rId1"/>
          <a:stretch/>
        </p:blipFill>
        <p:spPr>
          <a:xfrm>
            <a:off x="581040" y="1347840"/>
            <a:ext cx="7981920" cy="4162320"/>
          </a:xfrm>
          <a:prstGeom prst="rect">
            <a:avLst/>
          </a:prstGeom>
          <a:ln w="0">
            <a:noFill/>
          </a:ln>
        </p:spPr>
      </p:pic>
      <p:pic>
        <p:nvPicPr>
          <p:cNvPr id="1069" name="Picture 4" descr=""/>
          <p:cNvPicPr/>
          <p:nvPr/>
        </p:nvPicPr>
        <p:blipFill>
          <a:blip r:embed="rId2"/>
          <a:stretch/>
        </p:blipFill>
        <p:spPr>
          <a:xfrm>
            <a:off x="3714840" y="2486160"/>
            <a:ext cx="1000080" cy="442800"/>
          </a:xfrm>
          <a:prstGeom prst="rect">
            <a:avLst/>
          </a:prstGeom>
          <a:ln w="0">
            <a:noFill/>
          </a:ln>
        </p:spPr>
      </p:pic>
      <p:pic>
        <p:nvPicPr>
          <p:cNvPr id="1070" name="Picture 4" descr=""/>
          <p:cNvPicPr/>
          <p:nvPr/>
        </p:nvPicPr>
        <p:blipFill>
          <a:blip r:embed="rId3"/>
          <a:stretch/>
        </p:blipFill>
        <p:spPr>
          <a:xfrm>
            <a:off x="3357720" y="4214880"/>
            <a:ext cx="857160" cy="44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1" dur="500"/>
                                        <p:tgtEl>
                                          <p:spTgt spid="10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6" dur="500"/>
                                        <p:tgtEl>
                                          <p:spTgt spid="10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3" name="Picture 4" descr=""/>
          <p:cNvPicPr/>
          <p:nvPr/>
        </p:nvPicPr>
        <p:blipFill>
          <a:blip r:embed="rId1"/>
          <a:stretch/>
        </p:blipFill>
        <p:spPr>
          <a:xfrm>
            <a:off x="142920" y="1114560"/>
            <a:ext cx="8858160" cy="4628880"/>
          </a:xfrm>
          <a:prstGeom prst="rect">
            <a:avLst/>
          </a:prstGeom>
          <a:ln w="0">
            <a:noFill/>
          </a:ln>
        </p:spPr>
      </p:pic>
      <p:pic>
        <p:nvPicPr>
          <p:cNvPr id="1024" name="Picture 4" descr=""/>
          <p:cNvPicPr/>
          <p:nvPr/>
        </p:nvPicPr>
        <p:blipFill>
          <a:blip r:embed="rId2"/>
          <a:stretch/>
        </p:blipFill>
        <p:spPr>
          <a:xfrm>
            <a:off x="5286240" y="2324160"/>
            <a:ext cx="2000520" cy="330120"/>
          </a:xfrm>
          <a:prstGeom prst="rect">
            <a:avLst/>
          </a:prstGeom>
          <a:ln w="0">
            <a:noFill/>
          </a:ln>
        </p:spPr>
      </p:pic>
      <p:pic>
        <p:nvPicPr>
          <p:cNvPr id="1025" name="Picture 4" descr=""/>
          <p:cNvPicPr/>
          <p:nvPr/>
        </p:nvPicPr>
        <p:blipFill>
          <a:blip r:embed="rId3"/>
          <a:stretch/>
        </p:blipFill>
        <p:spPr>
          <a:xfrm>
            <a:off x="5357880" y="2773440"/>
            <a:ext cx="1071360" cy="330120"/>
          </a:xfrm>
          <a:prstGeom prst="rect">
            <a:avLst/>
          </a:prstGeom>
          <a:ln w="0">
            <a:noFill/>
          </a:ln>
        </p:spPr>
      </p:pic>
      <p:pic>
        <p:nvPicPr>
          <p:cNvPr id="1026" name="Picture 4" descr=""/>
          <p:cNvPicPr/>
          <p:nvPr/>
        </p:nvPicPr>
        <p:blipFill>
          <a:blip r:embed="rId4"/>
          <a:stretch/>
        </p:blipFill>
        <p:spPr>
          <a:xfrm>
            <a:off x="5286240" y="3176640"/>
            <a:ext cx="785880" cy="330120"/>
          </a:xfrm>
          <a:prstGeom prst="rect">
            <a:avLst/>
          </a:prstGeom>
          <a:ln w="0">
            <a:noFill/>
          </a:ln>
        </p:spPr>
      </p:pic>
      <p:pic>
        <p:nvPicPr>
          <p:cNvPr id="1027" name="Picture 4" descr=""/>
          <p:cNvPicPr/>
          <p:nvPr/>
        </p:nvPicPr>
        <p:blipFill>
          <a:blip r:embed="rId5"/>
          <a:stretch/>
        </p:blipFill>
        <p:spPr>
          <a:xfrm>
            <a:off x="2071800" y="4025880"/>
            <a:ext cx="928440" cy="330120"/>
          </a:xfrm>
          <a:prstGeom prst="rect">
            <a:avLst/>
          </a:prstGeom>
          <a:ln w="0">
            <a:noFill/>
          </a:ln>
        </p:spPr>
      </p:pic>
      <p:pic>
        <p:nvPicPr>
          <p:cNvPr id="1028" name="Picture 4" descr=""/>
          <p:cNvPicPr/>
          <p:nvPr/>
        </p:nvPicPr>
        <p:blipFill>
          <a:blip r:embed="rId6"/>
          <a:stretch/>
        </p:blipFill>
        <p:spPr>
          <a:xfrm>
            <a:off x="5929200" y="4038480"/>
            <a:ext cx="1071720" cy="33048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4" descr=""/>
          <p:cNvPicPr/>
          <p:nvPr/>
        </p:nvPicPr>
        <p:blipFill>
          <a:blip r:embed="rId7"/>
          <a:stretch/>
        </p:blipFill>
        <p:spPr>
          <a:xfrm>
            <a:off x="1071720" y="4467240"/>
            <a:ext cx="649080" cy="33012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4" descr=""/>
          <p:cNvPicPr/>
          <p:nvPr/>
        </p:nvPicPr>
        <p:blipFill>
          <a:blip r:embed="rId8"/>
          <a:stretch/>
        </p:blipFill>
        <p:spPr>
          <a:xfrm>
            <a:off x="2525760" y="4467240"/>
            <a:ext cx="649080" cy="33012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4" descr=""/>
          <p:cNvPicPr/>
          <p:nvPr/>
        </p:nvPicPr>
        <p:blipFill>
          <a:blip r:embed="rId9"/>
          <a:stretch/>
        </p:blipFill>
        <p:spPr>
          <a:xfrm>
            <a:off x="4780080" y="4467240"/>
            <a:ext cx="649080" cy="33012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4" descr=""/>
          <p:cNvPicPr/>
          <p:nvPr/>
        </p:nvPicPr>
        <p:blipFill>
          <a:blip r:embed="rId10"/>
          <a:stretch/>
        </p:blipFill>
        <p:spPr>
          <a:xfrm>
            <a:off x="3643200" y="4857840"/>
            <a:ext cx="649440" cy="330120"/>
          </a:xfrm>
          <a:prstGeom prst="rect">
            <a:avLst/>
          </a:prstGeom>
          <a:ln w="0">
            <a:noFill/>
          </a:ln>
        </p:spPr>
      </p:pic>
      <p:pic>
        <p:nvPicPr>
          <p:cNvPr id="1033" name="Picture 4" descr=""/>
          <p:cNvPicPr/>
          <p:nvPr/>
        </p:nvPicPr>
        <p:blipFill>
          <a:blip r:embed="rId11"/>
          <a:stretch/>
        </p:blipFill>
        <p:spPr>
          <a:xfrm>
            <a:off x="5857920" y="5299200"/>
            <a:ext cx="649080" cy="33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1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4" name="Picture 2" descr=""/>
          <p:cNvPicPr/>
          <p:nvPr/>
        </p:nvPicPr>
        <p:blipFill>
          <a:blip r:embed="rId1"/>
          <a:stretch/>
        </p:blipFill>
        <p:spPr>
          <a:xfrm>
            <a:off x="149400" y="784080"/>
            <a:ext cx="8886600" cy="6029640"/>
          </a:xfrm>
          <a:prstGeom prst="rect">
            <a:avLst/>
          </a:prstGeom>
          <a:ln w="0">
            <a:noFill/>
          </a:ln>
        </p:spPr>
      </p:pic>
      <p:pic>
        <p:nvPicPr>
          <p:cNvPr id="1035" name="Picture 4" descr=""/>
          <p:cNvPicPr/>
          <p:nvPr/>
        </p:nvPicPr>
        <p:blipFill>
          <a:blip r:embed="rId2"/>
          <a:stretch/>
        </p:blipFill>
        <p:spPr>
          <a:xfrm>
            <a:off x="8388360" y="2214720"/>
            <a:ext cx="385920" cy="328320"/>
          </a:xfrm>
          <a:prstGeom prst="rect">
            <a:avLst/>
          </a:prstGeom>
          <a:ln w="0">
            <a:noFill/>
          </a:ln>
        </p:spPr>
      </p:pic>
      <p:pic>
        <p:nvPicPr>
          <p:cNvPr id="1036" name="Picture 4" descr=""/>
          <p:cNvPicPr/>
          <p:nvPr/>
        </p:nvPicPr>
        <p:blipFill>
          <a:blip r:embed="rId3"/>
          <a:stretch/>
        </p:blipFill>
        <p:spPr>
          <a:xfrm>
            <a:off x="6643800" y="3571920"/>
            <a:ext cx="385560" cy="328680"/>
          </a:xfrm>
          <a:prstGeom prst="rect">
            <a:avLst/>
          </a:prstGeom>
          <a:ln w="0">
            <a:noFill/>
          </a:ln>
        </p:spPr>
      </p:pic>
      <p:pic>
        <p:nvPicPr>
          <p:cNvPr id="1037" name="Picture 4" descr=""/>
          <p:cNvPicPr/>
          <p:nvPr/>
        </p:nvPicPr>
        <p:blipFill>
          <a:blip r:embed="rId4"/>
          <a:stretch/>
        </p:blipFill>
        <p:spPr>
          <a:xfrm>
            <a:off x="6715080" y="4786200"/>
            <a:ext cx="385920" cy="3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8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3" dur="5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8" dur="5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8" name="Picture 2" descr=""/>
          <p:cNvPicPr/>
          <p:nvPr/>
        </p:nvPicPr>
        <p:blipFill>
          <a:blip r:embed="rId1"/>
          <a:stretch/>
        </p:blipFill>
        <p:spPr>
          <a:xfrm>
            <a:off x="179280" y="803160"/>
            <a:ext cx="8839440" cy="6010560"/>
          </a:xfrm>
          <a:prstGeom prst="rect">
            <a:avLst/>
          </a:prstGeom>
          <a:ln w="0">
            <a:noFill/>
          </a:ln>
        </p:spPr>
      </p:pic>
      <p:pic>
        <p:nvPicPr>
          <p:cNvPr id="1039" name="Picture 4" descr=""/>
          <p:cNvPicPr/>
          <p:nvPr/>
        </p:nvPicPr>
        <p:blipFill>
          <a:blip r:embed="rId2"/>
          <a:stretch/>
        </p:blipFill>
        <p:spPr>
          <a:xfrm>
            <a:off x="8388360" y="1714680"/>
            <a:ext cx="385920" cy="328320"/>
          </a:xfrm>
          <a:prstGeom prst="rect">
            <a:avLst/>
          </a:prstGeom>
          <a:ln w="0">
            <a:noFill/>
          </a:ln>
        </p:spPr>
      </p:pic>
      <p:pic>
        <p:nvPicPr>
          <p:cNvPr id="1040" name="Picture 4" descr=""/>
          <p:cNvPicPr/>
          <p:nvPr/>
        </p:nvPicPr>
        <p:blipFill>
          <a:blip r:embed="rId3"/>
          <a:stretch/>
        </p:blipFill>
        <p:spPr>
          <a:xfrm>
            <a:off x="8388360" y="2595600"/>
            <a:ext cx="385920" cy="328680"/>
          </a:xfrm>
          <a:prstGeom prst="rect">
            <a:avLst/>
          </a:prstGeom>
          <a:ln w="0">
            <a:noFill/>
          </a:ln>
        </p:spPr>
      </p:pic>
      <p:pic>
        <p:nvPicPr>
          <p:cNvPr id="1041" name="Picture 4" descr=""/>
          <p:cNvPicPr/>
          <p:nvPr/>
        </p:nvPicPr>
        <p:blipFill>
          <a:blip r:embed="rId4"/>
          <a:stretch/>
        </p:blipFill>
        <p:spPr>
          <a:xfrm>
            <a:off x="4500720" y="5977080"/>
            <a:ext cx="1571400" cy="328320"/>
          </a:xfrm>
          <a:prstGeom prst="rect">
            <a:avLst/>
          </a:prstGeom>
          <a:ln w="0">
            <a:noFill/>
          </a:ln>
        </p:spPr>
      </p:pic>
      <p:pic>
        <p:nvPicPr>
          <p:cNvPr id="1042" name="Picture 4" descr=""/>
          <p:cNvPicPr/>
          <p:nvPr/>
        </p:nvPicPr>
        <p:blipFill>
          <a:blip r:embed="rId5"/>
          <a:stretch/>
        </p:blipFill>
        <p:spPr>
          <a:xfrm>
            <a:off x="4000680" y="6405480"/>
            <a:ext cx="1214280" cy="3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5" dur="5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0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5" dur="5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0" dur="5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3" name="图片 1" descr=""/>
          <p:cNvPicPr/>
          <p:nvPr/>
        </p:nvPicPr>
        <p:blipFill>
          <a:blip r:embed="rId1"/>
          <a:stretch/>
        </p:blipFill>
        <p:spPr>
          <a:xfrm>
            <a:off x="311040" y="1116000"/>
            <a:ext cx="8523360" cy="5408640"/>
          </a:xfrm>
          <a:prstGeom prst="rect">
            <a:avLst/>
          </a:prstGeom>
          <a:ln w="0">
            <a:noFill/>
          </a:ln>
        </p:spPr>
      </p:pic>
      <p:pic>
        <p:nvPicPr>
          <p:cNvPr id="1044" name="Picture 4" descr=""/>
          <p:cNvPicPr/>
          <p:nvPr/>
        </p:nvPicPr>
        <p:blipFill>
          <a:blip r:embed="rId2"/>
          <a:stretch/>
        </p:blipFill>
        <p:spPr>
          <a:xfrm>
            <a:off x="7983360" y="2714760"/>
            <a:ext cx="519120" cy="442800"/>
          </a:xfrm>
          <a:prstGeom prst="rect">
            <a:avLst/>
          </a:prstGeom>
          <a:ln w="0">
            <a:noFill/>
          </a:ln>
        </p:spPr>
      </p:pic>
      <p:pic>
        <p:nvPicPr>
          <p:cNvPr id="1045" name="Picture 4" descr=""/>
          <p:cNvPicPr/>
          <p:nvPr/>
        </p:nvPicPr>
        <p:blipFill>
          <a:blip r:embed="rId3"/>
          <a:stretch/>
        </p:blipFill>
        <p:spPr>
          <a:xfrm>
            <a:off x="7983360" y="4081320"/>
            <a:ext cx="519120" cy="4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7" dur="5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2" dur="5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6" name="图片 1" descr=""/>
          <p:cNvPicPr/>
          <p:nvPr/>
        </p:nvPicPr>
        <p:blipFill>
          <a:blip r:embed="rId1"/>
          <a:stretch/>
        </p:blipFill>
        <p:spPr>
          <a:xfrm>
            <a:off x="333360" y="846000"/>
            <a:ext cx="8477280" cy="5753160"/>
          </a:xfrm>
          <a:prstGeom prst="rect">
            <a:avLst/>
          </a:prstGeom>
          <a:ln w="0">
            <a:noFill/>
          </a:ln>
        </p:spPr>
      </p:pic>
      <p:pic>
        <p:nvPicPr>
          <p:cNvPr id="1047" name="Picture 4" descr=""/>
          <p:cNvPicPr/>
          <p:nvPr/>
        </p:nvPicPr>
        <p:blipFill>
          <a:blip r:embed="rId2"/>
          <a:stretch/>
        </p:blipFill>
        <p:spPr>
          <a:xfrm>
            <a:off x="7858080" y="833400"/>
            <a:ext cx="519120" cy="442800"/>
          </a:xfrm>
          <a:prstGeom prst="rect">
            <a:avLst/>
          </a:prstGeom>
          <a:ln w="0">
            <a:noFill/>
          </a:ln>
        </p:spPr>
      </p:pic>
      <p:pic>
        <p:nvPicPr>
          <p:cNvPr id="1048" name="Picture 4" descr=""/>
          <p:cNvPicPr/>
          <p:nvPr/>
        </p:nvPicPr>
        <p:blipFill>
          <a:blip r:embed="rId3"/>
          <a:stretch/>
        </p:blipFill>
        <p:spPr>
          <a:xfrm>
            <a:off x="7858080" y="3711600"/>
            <a:ext cx="519120" cy="44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9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4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9" name="图片 2" descr=""/>
          <p:cNvPicPr/>
          <p:nvPr/>
        </p:nvPicPr>
        <p:blipFill>
          <a:blip r:embed="rId1"/>
          <a:stretch/>
        </p:blipFill>
        <p:spPr>
          <a:xfrm>
            <a:off x="349200" y="876240"/>
            <a:ext cx="8447040" cy="5780160"/>
          </a:xfrm>
          <a:prstGeom prst="rect">
            <a:avLst/>
          </a:prstGeom>
          <a:ln w="0">
            <a:noFill/>
          </a:ln>
        </p:spPr>
      </p:pic>
      <p:pic>
        <p:nvPicPr>
          <p:cNvPr id="1050" name="Picture 4" descr=""/>
          <p:cNvPicPr/>
          <p:nvPr/>
        </p:nvPicPr>
        <p:blipFill>
          <a:blip r:embed="rId2"/>
          <a:stretch/>
        </p:blipFill>
        <p:spPr>
          <a:xfrm>
            <a:off x="7000920" y="2782800"/>
            <a:ext cx="519120" cy="443160"/>
          </a:xfrm>
          <a:prstGeom prst="rect">
            <a:avLst/>
          </a:prstGeom>
          <a:ln w="0">
            <a:noFill/>
          </a:ln>
        </p:spPr>
      </p:pic>
      <p:pic>
        <p:nvPicPr>
          <p:cNvPr id="1051" name="Picture 4" descr=""/>
          <p:cNvPicPr/>
          <p:nvPr/>
        </p:nvPicPr>
        <p:blipFill>
          <a:blip r:embed="rId3"/>
          <a:stretch/>
        </p:blipFill>
        <p:spPr>
          <a:xfrm>
            <a:off x="6286680" y="3714840"/>
            <a:ext cx="518760" cy="442800"/>
          </a:xfrm>
          <a:prstGeom prst="rect">
            <a:avLst/>
          </a:prstGeom>
          <a:ln w="0">
            <a:noFill/>
          </a:ln>
        </p:spPr>
      </p:pic>
      <p:pic>
        <p:nvPicPr>
          <p:cNvPr id="1052" name="Picture 4" descr=""/>
          <p:cNvPicPr/>
          <p:nvPr/>
        </p:nvPicPr>
        <p:blipFill>
          <a:blip r:embed="rId4"/>
          <a:stretch/>
        </p:blipFill>
        <p:spPr>
          <a:xfrm>
            <a:off x="6429240" y="4714920"/>
            <a:ext cx="2286000" cy="442800"/>
          </a:xfrm>
          <a:prstGeom prst="rect">
            <a:avLst/>
          </a:prstGeom>
          <a:ln w="0">
            <a:noFill/>
          </a:ln>
        </p:spPr>
      </p:pic>
      <p:pic>
        <p:nvPicPr>
          <p:cNvPr id="1053" name="Picture 4" descr=""/>
          <p:cNvPicPr/>
          <p:nvPr/>
        </p:nvPicPr>
        <p:blipFill>
          <a:blip r:embed="rId5"/>
          <a:stretch/>
        </p:blipFill>
        <p:spPr>
          <a:xfrm>
            <a:off x="1571760" y="5203800"/>
            <a:ext cx="1928520" cy="44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1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6" dur="5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1" dur="5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6" dur="5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4" name="图片 1" descr=""/>
          <p:cNvPicPr/>
          <p:nvPr/>
        </p:nvPicPr>
        <p:blipFill>
          <a:blip r:embed="rId1"/>
          <a:stretch/>
        </p:blipFill>
        <p:spPr>
          <a:xfrm>
            <a:off x="361800" y="1533600"/>
            <a:ext cx="8420400" cy="3790800"/>
          </a:xfrm>
          <a:prstGeom prst="rect">
            <a:avLst/>
          </a:prstGeom>
          <a:ln w="0">
            <a:noFill/>
          </a:ln>
        </p:spPr>
      </p:pic>
      <p:pic>
        <p:nvPicPr>
          <p:cNvPr id="1055" name="Picture 4" descr=""/>
          <p:cNvPicPr/>
          <p:nvPr/>
        </p:nvPicPr>
        <p:blipFill>
          <a:blip r:embed="rId2"/>
          <a:stretch/>
        </p:blipFill>
        <p:spPr>
          <a:xfrm>
            <a:off x="4714920" y="1428840"/>
            <a:ext cx="519120" cy="442800"/>
          </a:xfrm>
          <a:prstGeom prst="rect">
            <a:avLst/>
          </a:prstGeom>
          <a:ln w="0">
            <a:noFill/>
          </a:ln>
        </p:spPr>
      </p:pic>
      <p:pic>
        <p:nvPicPr>
          <p:cNvPr id="1056" name="Picture 4" descr=""/>
          <p:cNvPicPr/>
          <p:nvPr/>
        </p:nvPicPr>
        <p:blipFill>
          <a:blip r:embed="rId3"/>
          <a:stretch/>
        </p:blipFill>
        <p:spPr>
          <a:xfrm>
            <a:off x="7500960" y="2428920"/>
            <a:ext cx="519120" cy="44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8" dur="5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7" name="图片 1" descr=""/>
          <p:cNvPicPr/>
          <p:nvPr/>
        </p:nvPicPr>
        <p:blipFill>
          <a:blip r:embed="rId1"/>
          <a:stretch/>
        </p:blipFill>
        <p:spPr>
          <a:xfrm>
            <a:off x="1314360" y="930240"/>
            <a:ext cx="6515280" cy="4038480"/>
          </a:xfrm>
          <a:prstGeom prst="rect">
            <a:avLst/>
          </a:prstGeom>
          <a:ln w="0">
            <a:noFill/>
          </a:ln>
        </p:spPr>
      </p:pic>
      <p:pic>
        <p:nvPicPr>
          <p:cNvPr id="1058" name="图片 3" descr=""/>
          <p:cNvPicPr/>
          <p:nvPr/>
        </p:nvPicPr>
        <p:blipFill>
          <a:blip r:embed="rId2"/>
          <a:stretch/>
        </p:blipFill>
        <p:spPr>
          <a:xfrm>
            <a:off x="690480" y="5127480"/>
            <a:ext cx="7761240" cy="1686240"/>
          </a:xfrm>
          <a:prstGeom prst="rect">
            <a:avLst/>
          </a:prstGeom>
          <a:ln w="0">
            <a:noFill/>
          </a:ln>
        </p:spPr>
      </p:pic>
      <p:pic>
        <p:nvPicPr>
          <p:cNvPr id="1059" name="Picture 4" descr=""/>
          <p:cNvPicPr/>
          <p:nvPr/>
        </p:nvPicPr>
        <p:blipFill>
          <a:blip r:embed="rId3"/>
          <a:stretch/>
        </p:blipFill>
        <p:spPr>
          <a:xfrm>
            <a:off x="4857840" y="5711760"/>
            <a:ext cx="2643120" cy="44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5" dur="5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8-04T03:37:13Z</dcterms:modified>
  <cp:revision>46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828</vt:lpwstr>
  </property>
</Properties>
</file>